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23F4-BF99-4BD7-8522-FB4E589B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47FF-D1A5-49CF-BAD1-64878BA3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B072-D99A-4E31-A6F2-E85732BA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FE6F-84A3-4A35-A619-002491C9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84C1-E8DB-42CB-A5AA-98397693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46FF-8DB5-4CC3-8902-A41E85CC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341A-FB45-4172-A352-C761755D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552C-D24C-4264-8FC5-683B56CD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83B1-96FB-42C0-BF30-A168270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90F1-5877-4A9C-9ADC-7FD3BD46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8A78-4FD0-4477-A661-732D73AA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93CE-1C71-437A-9934-A792A076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CCA5-6EC2-4C30-9D35-69058D9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1ED5-84B6-4852-A1AE-150728FD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EF48-E896-4E17-A695-9A6436A8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3B53-56D8-4590-9BDF-0578BA21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A5E1-38B4-4534-BE86-7A7C8B6F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8954-0FCB-47D7-814E-BB57CD99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3422-7631-4092-8421-2AFF8F1E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CD8A-741C-46D7-AA50-75044E6F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CD31-0B78-4B22-83C6-8B303A62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10D4-0156-483D-A843-6340AF91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EBE2-5F54-40C8-9F64-2C8DB7CC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1E5C-C826-4EFB-847A-BB496A41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260F-5665-498E-BBBF-AB99A6D5ECB9}" type="slidenum">
              <a:rPr b="0" lang="en-US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9BFA-BAB9-46E0-BDAA-30F1276FCDB1}" type="slidenum">
              <a:rPr b="0" lang="en-US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cc"/>
                </a:solidFill>
                <a:latin typeface="Arial"/>
              </a:rPr>
              <a:t>Me llamo ____________        Clase 7 IM</a:t>
            </a:r>
            <a:br>
              <a:rPr sz="3200"/>
            </a:br>
            <a:r>
              <a:rPr b="0" lang="en-US" sz="3200" spc="-1" strike="noStrike">
                <a:solidFill>
                  <a:srgbClr val="6699cc"/>
                </a:solidFill>
                <a:latin typeface="Arial"/>
              </a:rPr>
              <a:t>La fecha es el 17 de noviembre del 2011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Propósito # 21:</a:t>
            </a:r>
            <a:r>
              <a:rPr b="0" lang="es-ES_tradnl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practicamos los verbos Saber y Conocer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Actividad Inicial:</a:t>
            </a:r>
            <a:r>
              <a:rPr b="0" lang="es-ES_tradnl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ompleta con Saber o Conocer: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rma _________ mucho del arte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 a Norma, ella es mi amiga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___________poco del arte de Picasso y queremos ir a un museo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_________ tú como ir al museo de arte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no____ como ir, pero ¿__________ tú a Belinda y Ernesto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los si  __________ como ir al museo al museo de arte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cc"/>
                </a:solidFill>
                <a:latin typeface="Arial"/>
              </a:rPr>
              <a:t>Ejercicios: 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010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cc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1c1c34"/>
                </a:solidFill>
                <a:uFillTx/>
                <a:latin typeface="Arial"/>
              </a:rPr>
              <a:t>Ejercicio 6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p.95 (1-6)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1c1c34"/>
                </a:solidFill>
                <a:uFillTx/>
                <a:latin typeface="Arial"/>
              </a:rPr>
              <a:t>Ejercicio 7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p. 95 (1-6)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cc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ompleta p. 42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Completa p. 43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tudy for Quiz 5 on SABER y CONOCER on FRIDAY!!!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4290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cc"/>
                </a:solidFill>
                <a:latin typeface="Arial"/>
              </a:rPr>
              <a:t>Tarea # 21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18:01Z</dcterms:created>
  <dc:creator>Helen Zumaeta</dc:creator>
  <dc:description/>
  <dc:language>en-US</dc:language>
  <cp:lastModifiedBy>Helen Zumaeta</cp:lastModifiedBy>
  <dcterms:modified xsi:type="dcterms:W3CDTF">2011-11-19T00:12:31Z</dcterms:modified>
  <cp:revision>2</cp:revision>
  <dc:subject/>
  <dc:title>Me llamo ____________        Clase 7 IM La fecha es el 17 de noviembre del 2011</dc:title>
</cp:coreProperties>
</file>